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03EA-0DCD-4BAB-871E-002B932C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1E8-276E-4AA7-81FB-88A56445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7439-6894-4C2E-97C6-2218B248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236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8788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236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8788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810-7A51-4514-B00E-05FBB05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07F0-B93D-4AAE-BE81-C969D6209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0DF3-5F2A-42E5-8A3F-16F593EF6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8D84-81F0-4531-B4FC-ED733638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40A10-1B8F-4FFA-9CFD-21264B6B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C1FB-2DEA-44EF-9022-54072E19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5159-40AE-4AC0-8A80-8B978A66B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232E-6AE3-4ECE-B3F9-B98579DF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557-2263-42C4-93C7-B0525A01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F228-4D5F-4B99-A0A4-5880D64E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6632-8D3C-4A14-B640-90AF7E5E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AD84F-BE49-4A7C-AA5C-5B5CEB06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01B2-0BF4-417B-B829-D2743C0EE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90512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8420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1CE-4BEE-4F36-9413-8C6BBF6B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063E-1F90-4C47-B423-722DEFA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42BE-8861-47F0-B5DC-DB38CEF7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71A-96B6-405F-B526-35A5C3D9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887-2BEA-46F6-A19C-1D775471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901-464D-445F-B795-DE0BD705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7600" y="408420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A4516-3D37-4B90-BAFD-D8910422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7600" y="190512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8420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28BB-2FCA-4D4D-833C-7005C6163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86868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6868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393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9393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7ED1-F6E3-4B2E-BBCC-DA889EF82CB1}" type="slidenum">
              <a:rPr b="0" lang="en-US" sz="1400" spc="-1" strike="noStrike">
                <a:solidFill>
                  <a:srgbClr val="39393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0958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E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A3D6-A110-4968-B8D4-12FE624E3D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time Postal Oper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graph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SB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command and control for postal compan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ist postal commanders with life support for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orporate postal HQ in deployment pla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IVISION G1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staff responsibility for all mail (except official) for the divi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 as liaison between the division and the postal services plat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ot check mail operations for standards of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transportation of mail from postal services platoon to the MDP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RSONNEL GROUP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e post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the MACOM activate postal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MMT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postal operations in a contingency the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70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transportation of mail from postal operations platoon to postal service plato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ATER PERSCO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operation of MM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e locator/redirect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 theater mail poli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unit mail routing  information to Joint Military Postal Agency (JMP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6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6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s postal operations in a mature the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MAIL FLOW FROM GATEWAY TO AMT/MM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"/>
          <p:cNvSpPr/>
          <p:nvPr/>
        </p:nvSpPr>
        <p:spPr>
          <a:xfrm>
            <a:off x="1530360" y="2362320"/>
            <a:ext cx="585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983880" y="2368440"/>
            <a:ext cx="546120" cy="15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0800" y="3994200"/>
            <a:ext cx="15256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18840" y="5518080"/>
            <a:ext cx="1496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MT/MM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24120" y="6356520"/>
            <a:ext cx="6904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57280" y="3308400"/>
            <a:ext cx="719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58000" y="2135160"/>
            <a:ext cx="717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62120" y="1525680"/>
            <a:ext cx="50245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-Class, Priority , SAM*, PAL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-Class MOM, Fourth-Class M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90680" y="2338560"/>
            <a:ext cx="928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81440" y="4573440"/>
            <a:ext cx="210024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2160" y="5106960"/>
            <a:ext cx="5635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-Class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-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Fourth-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6840" y="4349880"/>
            <a:ext cx="368280" cy="67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78080" y="5029200"/>
            <a:ext cx="5321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9600" y="6005520"/>
            <a:ext cx="5428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AL Not Applicable to official 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711840" y="5035680"/>
            <a:ext cx="36828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45360" y="5721480"/>
            <a:ext cx="21600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8229600" y="3651120"/>
            <a:ext cx="0" cy="184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8153280" y="2431800"/>
            <a:ext cx="0" cy="92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21680" y="2368440"/>
            <a:ext cx="520560" cy="311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MILITARY GATEWAYS / JMP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53960" y="2125800"/>
          <a:ext cx="6559560" cy="371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3960" y="2125800"/>
                    <a:ext cx="6559560" cy="37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980280" y="2550960"/>
            <a:ext cx="871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77400" y="3994200"/>
            <a:ext cx="16185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n Francis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18280" y="3084480"/>
            <a:ext cx="10303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ic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03000" y="2779560"/>
            <a:ext cx="1252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Y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11040" y="3765600"/>
            <a:ext cx="14144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shing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78600" y="4680000"/>
            <a:ext cx="1440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cksonvi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51800" y="5594400"/>
            <a:ext cx="8582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am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OVEMENT OF MAIL (CONUS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lbox to gate w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ass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600 miles - fl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868686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600 miles - tru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ther mail is truck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ateway to MM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Class and MOM - flown (US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ther mail - shipped (US register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USPS </a:t>
            </a:r>
            <a:r>
              <a:rPr b="1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 postal operations on CONUS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ail to gateway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rt to nine digit addr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 retrograde mail within the 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MPA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 as single POC with USPS at 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rdinate mail routing scheme changes wi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 movement of mail from CONUS gateways to theater of op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mail terminals or sea 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ilitary Postal Service Agency (MPSA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djutant General is the executive mail manager for MPSA and is therefore the functional proponent for all postal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d by an Army, Air Force, or Marine  colonel or a Navy Cap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the Hoffman building in Alexandria, 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two JMPA’s, one in New York and one in San Francisc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inal Learning Objective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78840" cy="46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TION: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the completion of this lesson you will be familiar with wartime postal op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ONDITIONS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 access to FM 12-6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OD 4526.6M Vol II and AR 600-8-3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TANDARDS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Identified the responsibilities of key postal activiti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 Identified the mail flow from a CONUS post office to a soldier i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theater of operation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 Identified the location of postal units on the battlefiel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PSA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 policies and procedures for the Military Postal Service (M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DoD POC with USPS on policy and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contingency APO’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ordinate initial mail routing schemes with the Joint Military Postal Activity (JMP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COM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Reserve Component act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est Contingency Army Post Office (CAPO's) from MP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ILITARY ADDR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O” Army Post Office (facil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PO” Military Post Office (facilit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PO” Contingency Army Post Office (uni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ve are used to sort mail to pin point lo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OUTING SCHE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APO’s, MPO’s, and CAPO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e mail from gateways to operations platoon to service platoon to brig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ected by task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575440" y="630360"/>
            <a:ext cx="45856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STAL MA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7360" y="2286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80280" y="213840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82640" y="22860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38040" y="21384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587760" y="22860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19360" y="213840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721480" y="228600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29400" y="21384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778880" y="22860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53452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97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2940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" y="6477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80280" y="632448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682640" y="6477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038040" y="63244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87760" y="6477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19360" y="632448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721480" y="64771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29400" y="6324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778880" y="64771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199960" y="5105520"/>
            <a:ext cx="327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257360" y="5105520"/>
            <a:ext cx="32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462360" y="51055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62320" y="5873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19720" y="56451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629400" y="5416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5960" y="244476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35877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6840" y="45021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15960" y="549288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901960" y="53402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8280" y="335916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35680" y="511164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9040" y="46544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0480" y="2490840"/>
            <a:ext cx="9676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4160" y="5533920"/>
            <a:ext cx="10058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5720" y="36050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133280" y="451944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61720" y="33764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85760" y="53578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014440" y="51292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48160" y="46720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04680" y="277956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85560" y="36892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38040" y="255096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962080" y="45277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090760" y="42991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300800" y="38419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82040" y="36576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605720" y="57913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441440" y="3587760"/>
            <a:ext cx="241200" cy="596880"/>
            <a:chOff x="1441440" y="3587760"/>
            <a:chExt cx="241200" cy="596880"/>
          </a:xfrm>
        </p:grpSpPr>
        <p:sp>
          <p:nvSpPr>
            <p:cNvPr id="349" name=""/>
            <p:cNvSpPr/>
            <p:nvPr/>
          </p:nvSpPr>
          <p:spPr>
            <a:xfrm flipH="1">
              <a:off x="1441440" y="35877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54040" y="38926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1898640" y="4502160"/>
            <a:ext cx="241200" cy="596880"/>
            <a:chOff x="1898640" y="4502160"/>
            <a:chExt cx="241200" cy="596880"/>
          </a:xfrm>
        </p:grpSpPr>
        <p:sp>
          <p:nvSpPr>
            <p:cNvPr id="352" name=""/>
            <p:cNvSpPr/>
            <p:nvPr/>
          </p:nvSpPr>
          <p:spPr>
            <a:xfrm flipH="1">
              <a:off x="1898640" y="45021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911240" y="48070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3575160" y="5340240"/>
            <a:ext cx="241200" cy="596880"/>
            <a:chOff x="3575160" y="5340240"/>
            <a:chExt cx="241200" cy="596880"/>
          </a:xfrm>
        </p:grpSpPr>
        <p:sp>
          <p:nvSpPr>
            <p:cNvPr id="355" name=""/>
            <p:cNvSpPr/>
            <p:nvPr/>
          </p:nvSpPr>
          <p:spPr>
            <a:xfrm flipH="1">
              <a:off x="3575160" y="53402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587760" y="56451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3650760" y="3359160"/>
            <a:ext cx="241560" cy="596880"/>
            <a:chOff x="3650760" y="3359160"/>
            <a:chExt cx="241560" cy="596880"/>
          </a:xfrm>
        </p:grpSpPr>
        <p:sp>
          <p:nvSpPr>
            <p:cNvPr id="358" name=""/>
            <p:cNvSpPr/>
            <p:nvPr/>
          </p:nvSpPr>
          <p:spPr>
            <a:xfrm flipH="1">
              <a:off x="3650760" y="335916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64080" y="366408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708160" y="5111640"/>
            <a:ext cx="241560" cy="596880"/>
            <a:chOff x="5708160" y="5111640"/>
            <a:chExt cx="241560" cy="596880"/>
          </a:xfrm>
        </p:grpSpPr>
        <p:sp>
          <p:nvSpPr>
            <p:cNvPr id="361" name=""/>
            <p:cNvSpPr/>
            <p:nvPr/>
          </p:nvSpPr>
          <p:spPr>
            <a:xfrm flipH="1">
              <a:off x="5708160" y="5111640"/>
              <a:ext cx="2415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721480" y="541656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842240" y="4654440"/>
            <a:ext cx="241200" cy="596880"/>
            <a:chOff x="7842240" y="4654440"/>
            <a:chExt cx="241200" cy="596880"/>
          </a:xfrm>
        </p:grpSpPr>
        <p:sp>
          <p:nvSpPr>
            <p:cNvPr id="364" name=""/>
            <p:cNvSpPr/>
            <p:nvPr/>
          </p:nvSpPr>
          <p:spPr>
            <a:xfrm flipH="1">
              <a:off x="7842240" y="46544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854840" y="49593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39640" y="35877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39640" y="38797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6840" y="45021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996840" y="47941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2280" y="3130560"/>
            <a:ext cx="63360" cy="368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685800" y="4336560"/>
            <a:ext cx="0" cy="1079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49480" y="4273560"/>
            <a:ext cx="63360" cy="139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835280" y="3650760"/>
            <a:ext cx="1054080" cy="165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35280" y="4197240"/>
            <a:ext cx="977760" cy="978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33920" y="4044960"/>
            <a:ext cx="0" cy="113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58960" y="3968640"/>
            <a:ext cx="5245200" cy="673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063880" y="4121280"/>
            <a:ext cx="2882880" cy="977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102360" y="4946760"/>
            <a:ext cx="977760" cy="16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92680" y="4044960"/>
            <a:ext cx="1206360" cy="90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626240" y="3955680"/>
            <a:ext cx="139680" cy="46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702560" y="54165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AIL PRIOR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fficial registered mail including classified up to secre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ther accountable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other mai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5000"/>
              </a:lnSpc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ve applies to inbound and outboun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SUALTY MA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beled by mail cler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ice platoon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bel “search”, “hospital search”, “patien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platoon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is a synchronized system between the units, postal units, PSB, Personnel Group, and Theater PERSCOM to prevent the premature release of casualty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963440" y="554040"/>
            <a:ext cx="55018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SUALTY MAIL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5960" y="228600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08880" y="213840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87560" y="22860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66640" y="21384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816360" y="22860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547960" y="213840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950080" y="228600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58000" y="213840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7480" y="228600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763120" y="2292480"/>
            <a:ext cx="0" cy="417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909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64832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0" y="2292480"/>
            <a:ext cx="0" cy="280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5960" y="6477120"/>
            <a:ext cx="59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208880" y="6324480"/>
            <a:ext cx="766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O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911240" y="647712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66640" y="63244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16360" y="64771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547960" y="6324480"/>
            <a:ext cx="474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50080" y="6477120"/>
            <a:ext cx="189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758000" y="632448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007480" y="6477120"/>
            <a:ext cx="74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428560" y="5105520"/>
            <a:ext cx="3276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81280" y="5105520"/>
            <a:ext cx="327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690960" y="5105520"/>
            <a:ext cx="327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590920" y="58737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48320" y="5645160"/>
            <a:ext cx="0" cy="82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58000" y="5416560"/>
            <a:ext cx="0" cy="105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68240" y="4044960"/>
            <a:ext cx="11304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149480" y="5187960"/>
            <a:ext cx="11300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30560" y="53402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206880" y="389268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64280" y="5111640"/>
            <a:ext cx="9014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97640" y="4654440"/>
            <a:ext cx="9018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904320" y="406224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285560" y="520524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190320" y="3909960"/>
            <a:ext cx="8521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14360" y="53578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43040" y="51292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376760" y="4672080"/>
            <a:ext cx="8960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V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80640" y="32320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361880" y="437508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266640" y="307980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90680" y="45277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19360" y="42991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29400" y="3841920"/>
            <a:ext cx="7531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910640" y="365760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34320" y="579132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D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670040" y="4044960"/>
            <a:ext cx="241200" cy="596880"/>
            <a:chOff x="1670040" y="4044960"/>
            <a:chExt cx="241200" cy="596880"/>
          </a:xfrm>
        </p:grpSpPr>
        <p:sp>
          <p:nvSpPr>
            <p:cNvPr id="455" name=""/>
            <p:cNvSpPr/>
            <p:nvPr/>
          </p:nvSpPr>
          <p:spPr>
            <a:xfrm flipH="1">
              <a:off x="1670040" y="4044960"/>
              <a:ext cx="2412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82640" y="434988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0560" y="5187960"/>
            <a:ext cx="241560" cy="596880"/>
            <a:chOff x="2050560" y="5187960"/>
            <a:chExt cx="241560" cy="596880"/>
          </a:xfrm>
        </p:grpSpPr>
        <p:sp>
          <p:nvSpPr>
            <p:cNvPr id="458" name=""/>
            <p:cNvSpPr/>
            <p:nvPr/>
          </p:nvSpPr>
          <p:spPr>
            <a:xfrm flipH="1">
              <a:off x="2050560" y="518796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63880" y="549288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803760" y="5340240"/>
            <a:ext cx="241200" cy="596880"/>
            <a:chOff x="3803760" y="5340240"/>
            <a:chExt cx="241200" cy="596880"/>
          </a:xfrm>
        </p:grpSpPr>
        <p:sp>
          <p:nvSpPr>
            <p:cNvPr id="461" name=""/>
            <p:cNvSpPr/>
            <p:nvPr/>
          </p:nvSpPr>
          <p:spPr>
            <a:xfrm flipH="1">
              <a:off x="3803760" y="53402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16360" y="56451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3879360" y="3892680"/>
            <a:ext cx="241560" cy="596880"/>
            <a:chOff x="3879360" y="3892680"/>
            <a:chExt cx="241560" cy="596880"/>
          </a:xfrm>
        </p:grpSpPr>
        <p:sp>
          <p:nvSpPr>
            <p:cNvPr id="464" name=""/>
            <p:cNvSpPr/>
            <p:nvPr/>
          </p:nvSpPr>
          <p:spPr>
            <a:xfrm flipH="1">
              <a:off x="3879360" y="3892680"/>
              <a:ext cx="24156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92680" y="4197240"/>
              <a:ext cx="21564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936760" y="5111640"/>
            <a:ext cx="241560" cy="596880"/>
            <a:chOff x="5936760" y="5111640"/>
            <a:chExt cx="241560" cy="596880"/>
          </a:xfrm>
        </p:grpSpPr>
        <p:sp>
          <p:nvSpPr>
            <p:cNvPr id="467" name=""/>
            <p:cNvSpPr/>
            <p:nvPr/>
          </p:nvSpPr>
          <p:spPr>
            <a:xfrm flipH="1">
              <a:off x="5936760" y="5111640"/>
              <a:ext cx="24156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50080" y="5416560"/>
              <a:ext cx="21564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8070840" y="4654440"/>
            <a:ext cx="241200" cy="596880"/>
            <a:chOff x="8070840" y="4654440"/>
            <a:chExt cx="241200" cy="596880"/>
          </a:xfrm>
        </p:grpSpPr>
        <p:sp>
          <p:nvSpPr>
            <p:cNvPr id="470" name=""/>
            <p:cNvSpPr/>
            <p:nvPr/>
          </p:nvSpPr>
          <p:spPr>
            <a:xfrm flipH="1">
              <a:off x="8070840" y="4654440"/>
              <a:ext cx="241200" cy="292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83440" y="4959360"/>
              <a:ext cx="216000" cy="291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68240" y="4044960"/>
            <a:ext cx="2160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68240" y="4336920"/>
            <a:ext cx="21600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9480" y="5187960"/>
            <a:ext cx="2156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1149480" y="5479920"/>
            <a:ext cx="21564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25640" y="2673360"/>
            <a:ext cx="444600" cy="520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25640" y="297180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28256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2901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124080" y="2901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4560" y="2597040"/>
            <a:ext cx="444600" cy="520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4560" y="2895480"/>
            <a:ext cx="44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066680" y="274968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990720" y="2825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143000" y="2825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197240" y="4197240"/>
            <a:ext cx="3035520" cy="44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121280" y="4502160"/>
            <a:ext cx="1054080" cy="52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740040" y="4578480"/>
            <a:ext cx="139680" cy="59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3117960" y="4654440"/>
            <a:ext cx="164880" cy="596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H="1" flipV="1">
            <a:off x="3117600" y="3269880"/>
            <a:ext cx="8892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H="1" flipV="1">
            <a:off x="1441440" y="2965320"/>
            <a:ext cx="1689120" cy="927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1821960" y="3130560"/>
            <a:ext cx="100332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990720" y="3193920"/>
            <a:ext cx="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H="1" flipV="1">
            <a:off x="1974960" y="4794120"/>
            <a:ext cx="241200" cy="317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7918560" y="3968640"/>
            <a:ext cx="24120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flipV="1">
            <a:off x="7994520" y="5403600"/>
            <a:ext cx="31752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-32400" y="3460680"/>
            <a:ext cx="3794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450360" y="4343400"/>
            <a:ext cx="241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SCELLANEOU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por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g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S/DS LESSONS LEARN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 postal elements ear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MHE and MT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ordinate with USPS to sort zip +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ed more flexible postal compan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vels of Postal Operation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CONUS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GATEWAY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MMT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PS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JMPA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PO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SP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ACOM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HQ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RPS/THT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V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B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N/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O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PSP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DP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         Clerk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SP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314000" y="2103480"/>
            <a:ext cx="622728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POSTAL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SERVICES PLATOON (PSP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provide direct mail service in an area of responsibility for up to 6,000 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processing/operation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al finan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B, BSA, MM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SERVICES PLATOON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accountable mail serv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stal finance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 mail to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stal services to organiz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OPERATIONS PLATOON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provide general postal services for up to 36,000 soldi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processing/operations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ory service s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jor theater mail recep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868686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M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OPERATIONS PLATOON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ceive mail at points of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 EPW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central directory service for individuals and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irect casualty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rect/Redirect intra-theater ma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COMPANY HQ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SSION: to provide command and control for two to six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TION: PS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STAL COMPANY </a:t>
            </a: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Responsibiliti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and and control of postal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policy and dir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liaison between operations platoons and services plato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ount for stamp stock, conduct audits, and remit fun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2-11T16:45:44Z</dcterms:created>
  <dc:creator>SSI, AG SCHOOL</dc:creator>
  <dc:description/>
  <dc:language>en-US</dc:language>
  <cp:lastModifiedBy>Administrator</cp:lastModifiedBy>
  <cp:lastPrinted>1999-01-21T19:42:34Z</cp:lastPrinted>
  <dcterms:modified xsi:type="dcterms:W3CDTF">2005-07-08T12:13:09Z</dcterms:modified>
  <cp:revision>15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E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